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66D-8665-4072-BAE4-F384C39A26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21D-E44A-4BB7-8DF2-C14BEBA3A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EFF-548D-4958-9D79-C47A0C93F3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301-A5B8-42E2-8A7A-C1EA3026E1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C731-A5AD-42E6-B7B7-7CC25CD8B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2C35-9305-4E95-A808-FF58C9AC5B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658-229F-4370-AEEE-3A816B2E05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3B0-82AA-414A-A08C-032D2C547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714D-0720-4EA7-8FA1-731FA4C9CF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BCE-FE16-48CF-932D-8E70D4CF2B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8CFB-30CE-4372-83DD-ED9172C68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A452-A861-461A-902F-C0306D9E3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1D3-6FAB-4B91-A7CB-A72B0626B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29DA-3EFA-4D78-BE25-60A8386D2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7422-9826-4BB5-BDBC-3990E10FA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41C-C183-440E-8BAB-71FC4A32F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3906-A05C-49C5-9AAB-46F2590DA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6C0-1830-4084-917C-507FD2ED76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27C8-B865-4164-9EE8-79DAA0FB22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E6B-B51F-4859-ADCB-176E4511D5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FAA7-4696-4AA0-AF7B-61CFBBAD7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FB0-2975-47FA-99B2-88D093086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E68-AEFE-44BB-95DC-03F68C175D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D5E-4E7E-4910-9EC6-24546021D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A2F-49D8-4A20-85DB-AC23516BA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6E45-4177-4477-86C9-3338307A7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CC5B-253A-4BEC-A8AD-F798AF67E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6FE-F30F-4BE5-935E-982E41AD49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AF96-F4F1-4A94-B707-A3A96FCDD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636E-322F-4D5A-AB91-BE8AFD15E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AE2-FD1C-42F1-9918-A0816656D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F37-B646-4F88-8BAA-F156DC70E2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9BE0-ABCB-469E-BC6A-4EDD0AF25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CB1-B97C-46F4-97E8-2D80A96A19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308-E264-41BD-8DE9-8D6C20C56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302B-F0DD-4CA1-8FA2-07E5DC4A07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295-6BC4-4949-9390-FF63CDB11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36E-6AB7-4355-8886-ED75222CF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171-6C96-46DD-9A86-9D181851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8A1-4200-4EFC-A041-7A0D087D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F99-5270-4540-9C7B-6599B8FF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001-ADF9-4B23-8294-85BA836B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5E6-C251-4793-841B-DA283B3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C6A-D7B0-4A56-BB08-57A3F5C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BD9-659E-43F7-B5B3-6A35C95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5EC-87D3-4E5D-B3AD-E94EEE7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3C4-9BC6-4475-9BF7-9299BEDA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FCC-A862-4874-B7B8-68BC072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C71-8E8F-415A-9085-7FC4FE4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515-A77B-40CE-B1B4-4D3FC75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D354-566A-4271-AB60-BB988B3DF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tic.baza.farpost.ru/bulletins_images/8/4/6/8468199.pn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Электронное  сопровождение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заданий учебника математики 2 класса, часть 1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(автор Н. Б. Истомина)</a:t>
            </a:r>
            <a:br>
              <a:rPr sz="2800"/>
            </a:br>
            <a:r>
              <a:rPr b="1" lang="ru-RU" sz="2800" spc="-1" strike="noStrike">
                <a:solidFill>
                  <a:srgbClr val="f63d18"/>
                </a:solidFill>
                <a:latin typeface="Calibri"/>
              </a:rPr>
              <a:t>для фронтальной работы с интерактивной доской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я четверть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Нумерация заданий в электронном сопровождении совпадает с нумерацией заданий в учебнике  2 класса, часть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76280"/>
            <a:ext cx="30351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51280" y="4076280"/>
            <a:ext cx="30351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metod-2"/>
          <p:cNvPicPr/>
          <p:nvPr/>
        </p:nvPicPr>
        <p:blipFill>
          <a:blip r:embed="rId1"/>
          <a:stretch/>
        </p:blipFill>
        <p:spPr>
          <a:xfrm>
            <a:off x="5867280" y="414972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Картинка 16 из 77868">
            <a:hlinkClick r:id="rId2"/>
          </p:cNvPr>
          <p:cNvPicPr/>
          <p:nvPr/>
        </p:nvPicPr>
        <p:blipFill>
          <a:blip r:embed="rId3"/>
          <a:srcRect l="0" t="0" r="41841" b="0"/>
          <a:stretch/>
        </p:blipFill>
        <p:spPr>
          <a:xfrm>
            <a:off x="611280" y="3284640"/>
            <a:ext cx="3160800" cy="30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uch%202-1"/>
          <p:cNvPicPr/>
          <p:nvPr/>
        </p:nvPicPr>
        <p:blipFill>
          <a:blip r:embed="rId4"/>
          <a:stretch/>
        </p:blipFill>
        <p:spPr>
          <a:xfrm>
            <a:off x="2268360" y="4869000"/>
            <a:ext cx="1366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2"/>
          <p:cNvSpPr/>
          <p:nvPr/>
        </p:nvSpPr>
        <p:spPr>
          <a:xfrm>
            <a:off x="0" y="0"/>
            <a:ext cx="637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48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 или -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080" y="2071800"/>
            <a:ext cx="4214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69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=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7 = 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= 2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455000" y="2071800"/>
            <a:ext cx="455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= 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=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=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= 1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2"/>
          <p:cNvSpPr/>
          <p:nvPr/>
        </p:nvSpPr>
        <p:spPr>
          <a:xfrm>
            <a:off x="0" y="0"/>
            <a:ext cx="9396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49.  Найди закономерность, по которой составлен ряд чисел, и запиши в нём ещё 4 чи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50920" y="1413000"/>
            <a:ext cx="7108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   46,   36,   56,   46,  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,   25,   23,   26,   24,  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,   66,   76,   56,   66 ,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2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,   84,   82,   85,   83, 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2"/>
          <p:cNvSpPr/>
          <p:nvPr/>
        </p:nvSpPr>
        <p:spPr>
          <a:xfrm>
            <a:off x="0" y="0"/>
            <a:ext cx="8675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Отметь рисунок, на котором лучи никогда не пересеку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04760" y="1714680"/>
            <a:ext cx="90392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2"/>
          <p:cNvSpPr/>
          <p:nvPr/>
        </p:nvSpPr>
        <p:spPr>
          <a:xfrm>
            <a:off x="0" y="0"/>
            <a:ext cx="57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8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 или - ?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5102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вузначные числа. Сложение. Выч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8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Пользуясь рисунком, объясни, что обозначают раве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8893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2"/>
          <p:cNvSpPr/>
          <p:nvPr/>
        </p:nvSpPr>
        <p:spPr>
          <a:xfrm>
            <a:off x="0" y="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9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Выбери выражения, которые соответствуют рисунку, и найди их зна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62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2"/>
          <p:cNvSpPr/>
          <p:nvPr/>
        </p:nvSpPr>
        <p:spPr>
          <a:xfrm>
            <a:off x="0" y="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3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Назови на схеме отрезок, который соответствует выраж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929720" cy="199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00040" y="4357800"/>
            <a:ext cx="7748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2"/>
          <p:cNvSpPr/>
          <p:nvPr/>
        </p:nvSpPr>
        <p:spPr>
          <a:xfrm>
            <a:off x="0" y="0"/>
            <a:ext cx="795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7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Вставь пропущенные цифры так, чтобы равенства были вер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41626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2"/>
          <p:cNvSpPr/>
          <p:nvPr/>
        </p:nvSpPr>
        <p:spPr>
          <a:xfrm>
            <a:off x="0" y="0"/>
            <a:ext cx="867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97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. Вставь пропущенные цифры так, чтобы равенства были вер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40482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верь себя! Чему ты научился в 1 классе?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2"/>
          <p:cNvSpPr/>
          <p:nvPr/>
        </p:nvSpPr>
        <p:spPr>
          <a:xfrm>
            <a:off x="0" y="0"/>
            <a:ext cx="78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9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8. Вставь пропущенные числа так, чтобы равенства были вер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109960" y="1442880"/>
            <a:ext cx="492408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2"/>
          <p:cNvSpPr/>
          <p:nvPr/>
        </p:nvSpPr>
        <p:spPr>
          <a:xfrm>
            <a:off x="0" y="0"/>
            <a:ext cx="85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9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8. Вставь пропущенные числа так, чтобы равенства были вер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147760" y="1347840"/>
            <a:ext cx="48484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2"/>
          <p:cNvSpPr/>
          <p:nvPr/>
        </p:nvSpPr>
        <p:spPr>
          <a:xfrm>
            <a:off x="0" y="0"/>
            <a:ext cx="87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5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равни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2"/>
          <p:cNvSpPr/>
          <p:nvPr/>
        </p:nvSpPr>
        <p:spPr>
          <a:xfrm>
            <a:off x="0" y="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9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Пользуясь условием задачи, заполни таблиц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5800" y="1428840"/>
            <a:ext cx="8312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2"/>
          <p:cNvSpPr/>
          <p:nvPr/>
        </p:nvSpPr>
        <p:spPr>
          <a:xfrm>
            <a:off x="0" y="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Используя цифры 7, 8, 9, запиши 9 двузначных чис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0000" y="1557360"/>
          <a:ext cx="7858080" cy="5029200"/>
        </p:xfrm>
        <a:graphic>
          <a:graphicData uri="http://schemas.openxmlformats.org/drawingml/2006/table">
            <a:tbl>
              <a:tblPr/>
              <a:tblGrid>
                <a:gridCol w="2340000"/>
                <a:gridCol w="1892520"/>
                <a:gridCol w="1811160"/>
                <a:gridCol w="1814400"/>
              </a:tblGrid>
              <a:tr h="30168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.  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2"/>
          <p:cNvSpPr/>
          <p:nvPr/>
        </p:nvSpPr>
        <p:spPr>
          <a:xfrm>
            <a:off x="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Найди значение выражения в каждой па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4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2"/>
          <p:cNvSpPr/>
          <p:nvPr/>
        </p:nvSpPr>
        <p:spPr>
          <a:xfrm>
            <a:off x="0" y="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3. Заполни таблицу, пользуясь услов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2920" y="941400"/>
          <a:ext cx="8643960" cy="5208480"/>
        </p:xfrm>
        <a:graphic>
          <a:graphicData uri="http://schemas.openxmlformats.org/drawingml/2006/table">
            <a:tbl>
              <a:tblPr/>
              <a:tblGrid>
                <a:gridCol w="2268360"/>
                <a:gridCol w="1017720"/>
                <a:gridCol w="1071720"/>
                <a:gridCol w="1079280"/>
                <a:gridCol w="988920"/>
                <a:gridCol w="1109880"/>
                <a:gridCol w="1108080"/>
              </a:tblGrid>
              <a:tr h="57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11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Ластик 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акладка 6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учка 8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Карандаш 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ирожок 5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ороженое 7 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Линейка 4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улочка 6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2"/>
          <p:cNvSpPr/>
          <p:nvPr/>
        </p:nvSpPr>
        <p:spPr>
          <a:xfrm>
            <a:off x="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5. Пользуясь рисунками, найди значения выраж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4840" y="1773360"/>
            <a:ext cx="87343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2"/>
          <p:cNvSpPr/>
          <p:nvPr/>
        </p:nvSpPr>
        <p:spPr>
          <a:xfrm>
            <a:off x="0" y="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. Пользуясь планом действий, найди массу соба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250920" y="999360"/>
            <a:ext cx="8353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ходим массу гирь на правой чашке ве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 …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) Весы в равновесии. Значит,  масса собаки    и    гири на чашке весов слева тоже … к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3) Если из … кг вычесть массу гири (… кг), то    получим массу соба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i="1" lang="ru-RU" sz="2800" spc="-1" strike="noStrike">
                <a:solidFill>
                  <a:srgbClr val="f63d18"/>
                </a:solidFill>
                <a:latin typeface="Times New Roman"/>
                <a:ea typeface="Arial"/>
              </a:rPr>
              <a:t>Масса собаки …</a:t>
            </a:r>
            <a:r>
              <a:rPr b="1" i="1" lang="en-US" sz="2800" spc="-1" strike="noStrike">
                <a:solidFill>
                  <a:srgbClr val="f63d18"/>
                </a:solidFill>
                <a:latin typeface="Times New Roman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63d18"/>
                </a:solidFill>
                <a:latin typeface="Times New Roman"/>
                <a:ea typeface="Arial"/>
              </a:rPr>
              <a:t>кг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2"/>
          <p:cNvSpPr/>
          <p:nvPr/>
        </p:nvSpPr>
        <p:spPr>
          <a:xfrm>
            <a:off x="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4. Поясни, что обозначает каждый отрезок на схем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572080" cy="213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59817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55640" y="1844640"/>
          <a:ext cx="7817040" cy="3962520"/>
        </p:xfrm>
        <a:graphic>
          <a:graphicData uri="http://schemas.openxmlformats.org/drawingml/2006/table">
            <a:tbl>
              <a:tblPr/>
              <a:tblGrid>
                <a:gridCol w="2789280"/>
                <a:gridCol w="1662120"/>
                <a:gridCol w="1606680"/>
                <a:gridCol w="175896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ятки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12"/>
          <p:cNvSpPr/>
          <p:nvPr/>
        </p:nvSpPr>
        <p:spPr>
          <a:xfrm>
            <a:off x="0" y="0"/>
            <a:ext cx="8388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1. Используя цифры 1, 2, 5, запиши 6 различных двузначных чис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2"/>
          <p:cNvSpPr/>
          <p:nvPr/>
        </p:nvSpPr>
        <p:spPr>
          <a:xfrm>
            <a:off x="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0.Выбери рисунок, соответствующий каждому выраж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0160" y="1285920"/>
            <a:ext cx="8743680" cy="4286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285840" y="5929200"/>
            <a:ext cx="85485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2"/>
          <p:cNvSpPr/>
          <p:nvPr/>
        </p:nvSpPr>
        <p:spPr>
          <a:xfrm>
            <a:off x="0" y="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значные числа. Сложение. Вычит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73. </a:t>
            </a:r>
            <a:r>
              <a:rPr b="1" lang="ru-RU" sz="2400" spc="-1" strike="noStrike">
                <a:solidFill>
                  <a:srgbClr val="f63d18"/>
                </a:solidFill>
                <a:latin typeface="Arial"/>
                <a:ea typeface="Arial"/>
              </a:rPr>
              <a:t>+ или  -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285840" y="200016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=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=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= 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14920" y="2071800"/>
            <a:ext cx="421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6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= 9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= 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060360" y="62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2"/>
          <p:cNvSpPr/>
          <p:nvPr/>
        </p:nvSpPr>
        <p:spPr>
          <a:xfrm>
            <a:off x="755640" y="54936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вузначные числа. Сложение. Вычит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63d18"/>
                </a:solidFill>
                <a:latin typeface="Arial"/>
                <a:ea typeface="Arial"/>
              </a:rPr>
              <a:t>Задание </a:t>
            </a:r>
            <a:r>
              <a:rPr b="1" lang="en-US" sz="1800" spc="-1" strike="noStrike">
                <a:solidFill>
                  <a:srgbClr val="f63d18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f63d18"/>
                </a:solidFill>
                <a:latin typeface="Arial"/>
                <a:ea typeface="Arial"/>
              </a:rPr>
              <a:t>7</a:t>
            </a:r>
            <a:r>
              <a:rPr b="1" lang="en-US" sz="1800" spc="-1" strike="noStrike">
                <a:solidFill>
                  <a:srgbClr val="f63d18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f63d18"/>
                </a:solidFill>
                <a:latin typeface="Arial"/>
                <a:ea typeface="Arial"/>
              </a:rPr>
              <a:t>. + , -  или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21480" y="2714760"/>
            <a:ext cx="378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5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8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+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7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7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889160" y="2714760"/>
            <a:ext cx="41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9 + 2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7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9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+ 3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+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2"/>
          <p:cNvSpPr/>
          <p:nvPr/>
        </p:nvSpPr>
        <p:spPr>
          <a:xfrm>
            <a:off x="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5. Найди закономерность и впиши пропущенное чис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23080" cy="259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500120" y="3933720"/>
            <a:ext cx="6027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2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6. Объясни, что обозначает каждое число в выражении под рисун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27000" y="2135160"/>
            <a:ext cx="9117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2"/>
          <p:cNvSpPr/>
          <p:nvPr/>
        </p:nvSpPr>
        <p:spPr>
          <a:xfrm>
            <a:off x="0" y="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9. Пользуясь рисунком, найди значения выраж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0" y="1285920"/>
            <a:ext cx="9056520" cy="214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785880" y="4286160"/>
            <a:ext cx="1471680" cy="642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3"/>
          <a:stretch/>
        </p:blipFill>
        <p:spPr>
          <a:xfrm>
            <a:off x="928800" y="5072040"/>
            <a:ext cx="131580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928800" y="5929200"/>
            <a:ext cx="12492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2"/>
          <p:cNvSpPr/>
          <p:nvPr/>
        </p:nvSpPr>
        <p:spPr>
          <a:xfrm>
            <a:off x="0" y="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2.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ли 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985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2"/>
          <p:cNvSpPr/>
          <p:nvPr/>
        </p:nvSpPr>
        <p:spPr>
          <a:xfrm>
            <a:off x="0" y="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18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. Пользуясь рисунком, найди массу арбуза, массу дыни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589896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826920" y="3786120"/>
            <a:ext cx="5988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2"/>
          <p:cNvSpPr/>
          <p:nvPr/>
        </p:nvSpPr>
        <p:spPr>
          <a:xfrm>
            <a:off x="0" y="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86. Сравни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87480" y="1158840"/>
            <a:ext cx="90565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2"/>
          <p:cNvSpPr/>
          <p:nvPr/>
        </p:nvSpPr>
        <p:spPr>
          <a:xfrm>
            <a:off x="0" y="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87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(1-4)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. Вставь пропущенные числа так, чтобы получились верные раве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tretch/>
        </p:blipFill>
        <p:spPr>
          <a:xfrm>
            <a:off x="-22320" y="2006640"/>
            <a:ext cx="91663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2"/>
          <p:cNvSpPr/>
          <p:nvPr/>
        </p:nvSpPr>
        <p:spPr>
          <a:xfrm>
            <a:off x="0" y="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1). Найди правило, по которому составлена таблица, и заполни 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53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2"/>
          <p:cNvSpPr/>
          <p:nvPr/>
        </p:nvSpPr>
        <p:spPr>
          <a:xfrm>
            <a:off x="0" y="0"/>
            <a:ext cx="84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</a:t>
            </a:r>
            <a:r>
              <a:rPr b="1" lang="en-US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90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63d18"/>
                </a:solidFill>
                <a:latin typeface="Times New Roman"/>
                <a:ea typeface="Arial"/>
              </a:rPr>
              <a:t>Вставь пропущенные числа так, чтобы получились верные раве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70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97680" cy="5038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2"/>
          <p:cNvSpPr/>
          <p:nvPr/>
        </p:nvSpPr>
        <p:spPr>
          <a:xfrm>
            <a:off x="0" y="0"/>
            <a:ext cx="7236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ние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(2). Найди правило, по которому составлена таблица, и заполни е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2"/>
          <p:cNvSpPr/>
          <p:nvPr/>
        </p:nvSpPr>
        <p:spPr>
          <a:xfrm>
            <a:off x="539640" y="260280"/>
            <a:ext cx="846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оверь себя! Чему ты научился в 1 класс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Задание 1</a:t>
            </a:r>
            <a:r>
              <a:rPr b="1" lang="en-US" sz="24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63d18"/>
                </a:solidFill>
                <a:latin typeface="Times New Roman"/>
                <a:ea typeface="Times New Roman"/>
              </a:rPr>
              <a:t>. Найди значение выражений и заполни табл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5"/>
          <p:cNvGrpSpPr/>
          <p:nvPr/>
        </p:nvGrpSpPr>
        <p:grpSpPr>
          <a:xfrm>
            <a:off x="128520" y="2421000"/>
            <a:ext cx="9015480" cy="2214360"/>
            <a:chOff x="128520" y="2421000"/>
            <a:chExt cx="9015480" cy="2214360"/>
          </a:xfrm>
        </p:grpSpPr>
        <p:pic>
          <p:nvPicPr>
            <p:cNvPr id="64" name="Picture 4" descr=""/>
            <p:cNvPicPr/>
            <p:nvPr/>
          </p:nvPicPr>
          <p:blipFill>
            <a:blip r:embed="rId1"/>
            <a:stretch/>
          </p:blipFill>
          <p:spPr>
            <a:xfrm>
              <a:off x="128520" y="2421000"/>
              <a:ext cx="901548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4"/>
            <p:cNvSpPr/>
            <p:nvPr/>
          </p:nvSpPr>
          <p:spPr>
            <a:xfrm>
              <a:off x="357840" y="3849840"/>
              <a:ext cx="34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сумм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2"/>
          <p:cNvSpPr/>
          <p:nvPr/>
        </p:nvSpPr>
        <p:spPr>
          <a:xfrm>
            <a:off x="0" y="0"/>
            <a:ext cx="853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15. Вставь пропущенные числа и запиши верные раве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27800" y="1484280"/>
            <a:ext cx="39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+ …= 6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– … = 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 – … = 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736520" y="1628640"/>
            <a:ext cx="3948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3 + …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 – … = 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 + …= 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27080" y="3933720"/>
            <a:ext cx="403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57 + …= 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 + … = 8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 – … = 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662360" y="4005360"/>
            <a:ext cx="399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69 – … = 6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 + …= 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 – … = 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2"/>
          <p:cNvSpPr/>
          <p:nvPr/>
        </p:nvSpPr>
        <p:spPr>
          <a:xfrm>
            <a:off x="0" y="0"/>
            <a:ext cx="8101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16. Найди значения выражений и заполни табл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Группа 5"/>
          <p:cNvGrpSpPr/>
          <p:nvPr/>
        </p:nvGrpSpPr>
        <p:grpSpPr>
          <a:xfrm>
            <a:off x="214200" y="2643120"/>
            <a:ext cx="8639280" cy="2162160"/>
            <a:chOff x="214200" y="2643120"/>
            <a:chExt cx="8639280" cy="2162160"/>
          </a:xfrm>
        </p:grpSpPr>
        <p:pic>
          <p:nvPicPr>
            <p:cNvPr id="73" name="Picture 4" descr=""/>
            <p:cNvPicPr/>
            <p:nvPr/>
          </p:nvPicPr>
          <p:blipFill>
            <a:blip r:embed="rId1"/>
            <a:stretch/>
          </p:blipFill>
          <p:spPr>
            <a:xfrm>
              <a:off x="214200" y="2643120"/>
              <a:ext cx="86392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4"/>
            <p:cNvSpPr/>
            <p:nvPr/>
          </p:nvSpPr>
          <p:spPr>
            <a:xfrm>
              <a:off x="296640" y="4071960"/>
              <a:ext cx="343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разн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2"/>
          <p:cNvSpPr/>
          <p:nvPr/>
        </p:nvSpPr>
        <p:spPr>
          <a:xfrm>
            <a:off x="250920" y="189000"/>
            <a:ext cx="77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ние 37. Покажи  на схеме отрезок, который соответствует выраж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3789360"/>
            <a:ext cx="90075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32720" y="-52146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87 – 56                               1) 18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87 – 31                               2) 28 – 18 –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56 + 31                               3) 28 –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3:38:52Z</dcterms:created>
  <dc:creator>1</dc:creator>
  <dc:description/>
  <dc:language>en-US</dc:language>
  <cp:lastModifiedBy>admin</cp:lastModifiedBy>
  <dcterms:modified xsi:type="dcterms:W3CDTF">2013-11-01T11:32:38Z</dcterms:modified>
  <cp:revision>288</cp:revision>
  <dc:subject/>
  <dc:title>2 класс</dc:title>
</cp:coreProperties>
</file>